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39D-CAD1-407B-9E68-79AC993F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16D-7549-408E-BDD4-3DCBDB29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9BC-B93F-4A40-B705-05E67B61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4F2-5D52-41FD-9067-48C974B6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3FF-410B-4E61-8024-467BEAA1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23B-450A-4E18-AEE3-8133C3D8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CD4-0989-4054-9B5B-7816C1C0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026-11AE-459F-AEAF-96A667C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64A-13AD-4ED1-B365-BB13A612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889-4BD8-4C01-9A1A-7842A5E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28F-9ABF-489F-8B33-CBFF81C1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239-8FDC-4746-B800-9379E05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38F9-C706-47E2-9B64-8A9CF980C6F3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Public\Pictures\Sample Pictures\Pictures\Postgrado\Ecosistem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7 Rectángulo" descr=""/>
          <p:cNvPicPr/>
          <p:nvPr/>
        </p:nvPicPr>
        <p:blipFill>
          <a:blip r:embed="rId2"/>
          <a:stretch/>
        </p:blipFill>
        <p:spPr>
          <a:xfrm>
            <a:off x="-6480" y="2359080"/>
            <a:ext cx="9668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22:46:45Z</dcterms:created>
  <dc:creator>user</dc:creator>
  <dc:description/>
  <dc:language>en-US</dc:language>
  <cp:lastModifiedBy>johana</cp:lastModifiedBy>
  <dcterms:modified xsi:type="dcterms:W3CDTF">2011-05-26T02:58:36Z</dcterms:modified>
  <cp:revision>6</cp:revision>
  <dc:subject/>
  <dc:title>Diapositiva 1</dc:title>
</cp:coreProperties>
</file>